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415AC-1342-43A9-90B1-56247A693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647DA-F4F2-4607-B375-0ED881F8F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B084B-BF36-4756-8496-4800D1959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58902-A9A6-4882-BF5C-E3A0128A7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089B9-51AA-412D-8673-109C5FBC7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624EB-DA00-499D-92FE-68000AE26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65D41-6D2C-42BB-9A9E-FD38AA316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E0C17-1FD7-4D38-A321-554E1C04B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64103-1485-4824-AAAB-144C73AAD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C1676-519B-4C1C-AE61-292010DB1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A8DA2-C1FC-40BE-A1AA-A1BAFE4A9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178A6-42C5-49F0-A20A-080EC541C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90B8AE5-7469-4CBC-9D7E-79E6A5B686AC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2960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Franklin Gothic Book"/>
                <a:ea typeface="Franklin Gothic Book"/>
              </a:rPr>
              <a:t>Some background on Christopher Columb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514600" y="1828800"/>
            <a:ext cx="3762360" cy="45259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673160" y="1600200"/>
            <a:ext cx="4016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7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o was Columbu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-360" y="1143000"/>
            <a:ext cx="4800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98480" indent="-568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368360"/>
                <a:tab algn="l" pos="2282760"/>
                <a:tab algn="l" pos="3197160"/>
                <a:tab algn="l" pos="4111560"/>
                <a:tab algn="l" pos="5025960"/>
                <a:tab algn="l" pos="5940360"/>
                <a:tab algn="l" pos="6854760"/>
                <a:tab algn="l" pos="7769160"/>
                <a:tab algn="l" pos="8683560"/>
                <a:tab algn="l" pos="9597960"/>
                <a:tab algn="l" pos="1051236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  <a:ea typeface="Franklin Gothic Book"/>
              </a:rPr>
              <a:t>Italian</a:t>
            </a:r>
            <a:r>
              <a:rPr b="0" lang="en-US" sz="4400" spc="-1" strike="noStrike">
                <a:solidFill>
                  <a:srgbClr val="000000"/>
                </a:solidFill>
                <a:latin typeface="Franklin Gothic Book"/>
                <a:ea typeface="Franklin Gothic Book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Franklin Gothic Book"/>
                <a:ea typeface="Franklin Gothic Book"/>
              </a:rPr>
              <a:t>man born in Genoa in 145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98480" indent="-568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368360"/>
                <a:tab algn="l" pos="2282760"/>
                <a:tab algn="l" pos="3197160"/>
                <a:tab algn="l" pos="4111560"/>
                <a:tab algn="l" pos="5025960"/>
                <a:tab algn="l" pos="5940360"/>
                <a:tab algn="l" pos="6854760"/>
                <a:tab algn="l" pos="7769160"/>
                <a:tab algn="l" pos="8683560"/>
                <a:tab algn="l" pos="9597960"/>
                <a:tab algn="l" pos="1051236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  <a:ea typeface="Franklin Gothic Book"/>
              </a:rPr>
              <a:t>Merchant sailor who lived in Portugal and then Sp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98480" indent="-568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368360"/>
                <a:tab algn="l" pos="2282760"/>
                <a:tab algn="l" pos="3197160"/>
                <a:tab algn="l" pos="4111560"/>
                <a:tab algn="l" pos="5025960"/>
                <a:tab algn="l" pos="5940360"/>
                <a:tab algn="l" pos="6854760"/>
                <a:tab algn="l" pos="7769160"/>
                <a:tab algn="l" pos="8683560"/>
                <a:tab algn="l" pos="9597960"/>
                <a:tab algn="l" pos="1051236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  <a:ea typeface="Franklin Gothic Book"/>
              </a:rPr>
              <a:t>Very interested in ma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98480" indent="-568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368360"/>
                <a:tab algn="l" pos="2282760"/>
                <a:tab algn="l" pos="3197160"/>
                <a:tab algn="l" pos="4111560"/>
                <a:tab algn="l" pos="5025960"/>
                <a:tab algn="l" pos="5940360"/>
                <a:tab algn="l" pos="6854760"/>
                <a:tab algn="l" pos="7769160"/>
                <a:tab algn="l" pos="8683560"/>
                <a:tab algn="l" pos="9597960"/>
                <a:tab algn="l" pos="1051236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  <a:ea typeface="Franklin Gothic Book"/>
              </a:rPr>
              <a:t>Extremely religious Catho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3160" y="1600200"/>
            <a:ext cx="4016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768920" y="1600200"/>
            <a:ext cx="414648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Franklin Gothic Book"/>
                <a:ea typeface="Franklin Gothic Book"/>
              </a:rPr>
              <a:t>Why did he set sai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6465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6560" indent="-460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Franklin Gothic Book"/>
                <a:ea typeface="Franklin Gothic Book"/>
              </a:rPr>
              <a:t>He believed that you could sail </a:t>
            </a:r>
            <a:r>
              <a:rPr b="0" i="1" lang="en-US" sz="4000" spc="-1" strike="noStrike">
                <a:solidFill>
                  <a:srgbClr val="000000"/>
                </a:solidFill>
                <a:latin typeface="Franklin Gothic Book"/>
                <a:ea typeface="Franklin Gothic Book"/>
              </a:rPr>
              <a:t>west</a:t>
            </a:r>
            <a:r>
              <a:rPr b="0" lang="en-US" sz="4000" spc="-1" strike="noStrike">
                <a:solidFill>
                  <a:srgbClr val="000000"/>
                </a:solidFill>
                <a:latin typeface="Franklin Gothic Book"/>
                <a:ea typeface="Franklin Gothic Book"/>
              </a:rPr>
              <a:t> from Europe (across the Atlantic Ocean) to reach Asia more quickl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46560" indent="-460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Franklin Gothic Book"/>
                <a:ea typeface="Franklin Gothic Book"/>
              </a:rPr>
              <a:t>Asia (specifically the major civilizations in China and India) could be a source of wealth from tra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46560" indent="-460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Franklin Gothic Book"/>
                <a:ea typeface="Franklin Gothic Book"/>
              </a:rPr>
              <a:t>He also wanted to spread Christianity to other parts of the worl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465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5156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Franklin Gothic Book"/>
                <a:ea typeface="Franklin Gothic Book"/>
              </a:rPr>
              <a:t>Who financed his trip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5486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734400" indent="-5227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368360"/>
                <a:tab algn="l" pos="2282760"/>
                <a:tab algn="l" pos="3197160"/>
                <a:tab algn="l" pos="4111560"/>
                <a:tab algn="l" pos="5025960"/>
                <a:tab algn="l" pos="5940360"/>
                <a:tab algn="l" pos="6854760"/>
                <a:tab algn="l" pos="7769160"/>
                <a:tab algn="l" pos="8683560"/>
                <a:tab algn="l" pos="9597960"/>
                <a:tab algn="l" pos="1051236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  <a:ea typeface="Franklin Gothic Book"/>
              </a:rPr>
              <a:t>After several unsuccessful sales pitches to other European monarchs, Queen Isabella of Spain agreed to pay for the tr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34400" indent="-5227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368360"/>
                <a:tab algn="l" pos="2282760"/>
                <a:tab algn="l" pos="3197160"/>
                <a:tab algn="l" pos="4111560"/>
                <a:tab algn="l" pos="5025960"/>
                <a:tab algn="l" pos="5940360"/>
                <a:tab algn="l" pos="6854760"/>
                <a:tab algn="l" pos="7769160"/>
                <a:tab algn="l" pos="8683560"/>
                <a:tab algn="l" pos="9597960"/>
                <a:tab algn="l" pos="1051236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  <a:ea typeface="Franklin Gothic Book"/>
              </a:rPr>
              <a:t>Columbus would become governor of any land he found and could keep 1/10</a:t>
            </a:r>
            <a:r>
              <a:rPr b="0" lang="en-US" sz="3200" spc="-1" strike="noStrike" baseline="33000">
                <a:solidFill>
                  <a:srgbClr val="000000"/>
                </a:solidFill>
                <a:latin typeface="Franklin Gothic Book"/>
                <a:ea typeface="Franklin Gothic Book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Franklin Gothic Book"/>
                <a:ea typeface="Franklin Gothic Book"/>
              </a:rPr>
              <a:t> of the weal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34400" indent="-5227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368360"/>
                <a:tab algn="l" pos="2282760"/>
                <a:tab algn="l" pos="3197160"/>
                <a:tab algn="l" pos="4111560"/>
                <a:tab algn="l" pos="5025960"/>
                <a:tab algn="l" pos="5940360"/>
                <a:tab algn="l" pos="6854760"/>
                <a:tab algn="l" pos="7769160"/>
                <a:tab algn="l" pos="8683560"/>
                <a:tab algn="l" pos="9597960"/>
                <a:tab algn="l" pos="1051236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  <a:ea typeface="Franklin Gothic Book"/>
              </a:rPr>
              <a:t>All else would belong to the Spanish Crow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160" y="1600200"/>
            <a:ext cx="4016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5486400" y="1339920"/>
            <a:ext cx="3200400" cy="5060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ere did he lan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240" y="1142640"/>
            <a:ext cx="4343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7160" indent="-3171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  <a:ea typeface="Franklin Gothic Book"/>
              </a:rPr>
              <a:t>In October, 1492, his three ships landed in what is now the Bahamas in the Caribbean Sea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7160" indent="-3171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  <a:ea typeface="Franklin Gothic Book"/>
              </a:rPr>
              <a:t>He and his crew explored several islands in the area, including Cuba and </a:t>
            </a:r>
            <a:r>
              <a:rPr b="0" i="1" lang="en-US" sz="3200" spc="-1" strike="noStrike">
                <a:solidFill>
                  <a:srgbClr val="000000"/>
                </a:solidFill>
                <a:latin typeface="Franklin Gothic Book"/>
                <a:ea typeface="Franklin Gothic Book"/>
              </a:rPr>
              <a:t>Hispaniola</a:t>
            </a:r>
            <a:r>
              <a:rPr b="0" lang="en-US" sz="3200" spc="-1" strike="noStrike">
                <a:solidFill>
                  <a:srgbClr val="000000"/>
                </a:solidFill>
                <a:latin typeface="Franklin Gothic Book"/>
                <a:ea typeface="Franklin Gothic Book"/>
              </a:rPr>
              <a:t>, before returning to Spain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3160" y="1600200"/>
            <a:ext cx="4016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213080" y="2205000"/>
            <a:ext cx="4702320" cy="351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2960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ere did he 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ink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he had lande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39560" y="1689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Wingdings 2" charset="2"/>
              <a:buChar char="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  <a:ea typeface="Franklin Gothic Book"/>
              </a:rPr>
              <a:t>He thought he landed on islands off the coast of Asia, known to Europeans as “the Indies.”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Wingdings 2" charset="2"/>
              <a:buChar char="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  <a:ea typeface="Franklin Gothic Book"/>
              </a:rPr>
              <a:t>Therefore, he called the islands the West Ind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2960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Franklin Gothic Book"/>
                <a:ea typeface="Franklin Gothic Book"/>
              </a:rPr>
              <a:t>With whom was his first encount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28600" y="2200320"/>
            <a:ext cx="4016520" cy="328608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343400" y="1599840"/>
            <a:ext cx="4572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their island explorations, the Spanish met the Arawak peo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nking the Arawaks were the native people of “the Indies,” Columbus called them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los indi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04480"/>
            <a:ext cx="822960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Landing of Columbus on the Islands of Guanahani, West Indies”</a:t>
            </a:r>
            <a:br>
              <a:rPr sz="18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y John Vanderlyn (1836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 display at the U.S. Capital Build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457200" y="1143000"/>
            <a:ext cx="8229600" cy="540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560" y="274680"/>
            <a:ext cx="19810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embarkation at Veracruz”</a:t>
            </a:r>
            <a:br>
              <a:rPr sz="1800"/>
            </a:br>
            <a:br>
              <a:rPr sz="18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y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go Rivera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951)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 display at the National Gallery in Mexico C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2590920" y="152280"/>
            <a:ext cx="6154560" cy="6400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3T03:27:25Z</dcterms:created>
  <dc:creator>Dominic Lambek</dc:creator>
  <dc:description/>
  <dc:language>en-US</dc:language>
  <cp:lastModifiedBy>Dominic Lambek</cp:lastModifiedBy>
  <dcterms:modified xsi:type="dcterms:W3CDTF">2008-09-04T04:00:41Z</dcterms:modified>
  <cp:revision>2</cp:revision>
  <dc:subject/>
  <dc:title>Christopher Columbus and the “discovery” of the New World</dc:title>
</cp:coreProperties>
</file>